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6D1-AD7B-47E4-8E23-A9CE664D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867-0091-4D47-8F16-D46C1780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3CA-0003-4719-84BD-37D8180E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96A-1906-4698-B254-642C7322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8DB1-B3F4-4915-89A0-C8581326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12FA-C9CC-4D3F-9032-5E785B54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C1FA-FD9F-4EAB-AD68-34C8E4B3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BBAC-1971-47C1-8D01-6DAEEEFF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ECF2-1106-47DC-BDDD-FD0119B1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7616-5D68-44E5-B66D-1C5CBB60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2448-90C9-449E-9310-430A1065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BF7-CD04-41FD-9E57-BF670066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9557-0A00-4F1F-AC94-05C20FD0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681D-E0A6-475C-BDF2-CAA731CD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0088-1739-4DA7-B247-B9C2DF58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D892-B3F8-4509-96BF-7D5E0CC4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8F63-832E-4D29-9362-8D61738B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CB7E9-BDA9-47C5-BC0B-337B20A6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919B-7A77-4FB5-910C-28C6848C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14433-2C9B-42DF-AFBD-5CE32BDA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436C-E798-4E45-8F5C-47A9E62A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C33F-0567-42C8-A2A1-9081D501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7CE-4DAD-4096-848D-CEC6D9CD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668D-807A-4982-AA7D-56CB7EE3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7534-7A21-49DF-BA54-CFA8D20D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3107-B489-4FD3-ADA6-2510B41F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AC43B-4826-460E-A2EB-17760DE3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281C-EA0D-4F5F-80B3-97FCD8A6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E2BB-3196-4052-BF8B-18DE95E1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FA04-2474-4E62-BBDA-9A66E570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2C2-154C-4A50-9D09-75BFF42A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3F7-AEB6-42F4-BE0E-DA562B21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558-04E3-4DB5-AB9C-EAF3F91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128-904F-41AD-8B61-022C6FDA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0FE-03D4-4E07-93CD-78CCF2A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5B9-18BE-4C06-8B05-C939E5B7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343CA7-A6A0-4FA0-B3B2-3B13A912B42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575CB2-171C-4061-B58C-46E358E1A98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4A6093-8A73-4758-840E-932788C262E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2133000"/>
            <a:ext cx="7772040" cy="285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dverGothic"/>
              </a:rPr>
              <a:t>Безопасность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dverGothic"/>
              </a:rPr>
              <a:t>ребенка в се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dverGothic"/>
              </a:rPr>
              <a:t>Интернет</a:t>
            </a:r>
            <a:br>
              <a:rPr sz="4400"/>
            </a:br>
            <a:br>
              <a:rPr sz="28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golova"/>
          <p:cNvPicPr/>
          <p:nvPr/>
        </p:nvPicPr>
        <p:blipFill>
          <a:blip r:embed="rId1"/>
          <a:stretch/>
        </p:blipFill>
        <p:spPr>
          <a:xfrm>
            <a:off x="0" y="214200"/>
            <a:ext cx="3079440" cy="3857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0" y="6480"/>
            <a:ext cx="9143640" cy="1064520"/>
          </a:xfrm>
          <a:prstGeom prst="rect">
            <a:avLst/>
          </a:pr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зопасность детей в школ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14200" y="1928880"/>
            <a:ext cx="5357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ановлен персональный клиент фильт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тко сформулированы правила относительно доступа в Интер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Untitled-1color"/>
          <p:cNvPicPr/>
          <p:nvPr/>
        </p:nvPicPr>
        <p:blipFill>
          <a:blip r:embed="rId1"/>
          <a:stretch/>
        </p:blipFill>
        <p:spPr>
          <a:xfrm>
            <a:off x="5479920" y="1500120"/>
            <a:ext cx="3663720" cy="4084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st_zhelan1.jpg"/>
          <p:cNvPicPr/>
          <p:nvPr/>
        </p:nvPicPr>
        <p:blipFill>
          <a:blip r:embed="rId1"/>
          <a:srcRect l="3466" t="1949" r="4454" b="4292"/>
          <a:stretch/>
        </p:blipFill>
        <p:spPr>
          <a:xfrm>
            <a:off x="2214720" y="428760"/>
            <a:ext cx="5071680" cy="3927240"/>
          </a:xfrm>
          <a:prstGeom prst="rect">
            <a:avLst/>
          </a:prstGeom>
          <a:ln w="0">
            <a:solidFill>
              <a:srgbClr val="4f81bd">
                <a:lumMod val="75000"/>
              </a:srgbClr>
            </a:solidFill>
          </a:ln>
        </p:spPr>
      </p:pic>
      <p:sp>
        <p:nvSpPr>
          <p:cNvPr id="152" name="TextBox 5"/>
          <p:cNvSpPr/>
          <p:nvPr/>
        </p:nvSpPr>
        <p:spPr>
          <a:xfrm>
            <a:off x="642960" y="4643280"/>
            <a:ext cx="785772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вайте вместе любить наших детей, вместе заботиться об их здоровье, создавать успешное настоящее и счастливое будуще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кета для обучающихс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ли у вас дома интернет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сайты вы чаще всего посещаете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ете ли вы о тех опасностях, которые подстерегают вас в интернете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142084.jpg"/>
          <p:cNvPicPr/>
          <p:nvPr/>
        </p:nvPicPr>
        <p:blipFill>
          <a:blip r:embed="rId1"/>
          <a:stretch/>
        </p:blipFill>
        <p:spPr>
          <a:xfrm>
            <a:off x="6000840" y="3857760"/>
            <a:ext cx="2457000" cy="2457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кета для родителе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ете ли вы, чем опасен Интернет для ваших детей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есуетесь ли вы тем, что делает ваш ребенок в Интернете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ете ли вы, как уберечь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его ребенка от опасност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ы в Интернете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1257376957_1257344909_allday.ru_18.jpg"/>
          <p:cNvPicPr/>
          <p:nvPr/>
        </p:nvPicPr>
        <p:blipFill>
          <a:blip r:embed="rId1"/>
          <a:stretch/>
        </p:blipFill>
        <p:spPr>
          <a:xfrm>
            <a:off x="6357960" y="3000240"/>
            <a:ext cx="2499840" cy="3499920"/>
          </a:xfrm>
          <a:prstGeom prst="rect">
            <a:avLst/>
          </a:prstGeom>
          <a:ln w="0">
            <a:solidFill>
              <a:srgbClr val="4f81bd">
                <a:lumMod val="75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0" y="6120"/>
            <a:ext cx="9143640" cy="1002960"/>
          </a:xfrm>
          <a:prstGeom prst="rect">
            <a:avLst/>
          </a:pr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ревожная стат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57120" y="1500120"/>
            <a:ext cx="8429400" cy="5815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360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и опережают взрослых по количеству времени, которое они проводят в Интернете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60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4 % детей, регулярно использующих Интернет, хоть один раз подвергались сексуальным домогательствам при виртуальном общ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11 % подверглись этому нескольк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60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4.5 % детей назначали встречи с незнакомцами через Интернет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 % из них ходили на встречи в одиночку, а 7 % никому не сообщили, что с кем-то встреч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60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9 % детей иногда посещают порносай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еще 9 % делают это регулярно. 26% детей участвуют в чатах о сек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60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8% детей просматривают страницы о насил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60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6% детей просматривают страницы с расистским содержимы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60"/>
              </a:spcBef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1"/>
              </a:spcBef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0" y="6480"/>
            <a:ext cx="9143640" cy="1064520"/>
          </a:xfrm>
          <a:prstGeom prst="rect">
            <a:avLst/>
          </a:pr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чники проб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0" y="1357200"/>
            <a:ext cx="792936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4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желательное 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4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зартные 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редоносные и нежелательные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ошенники, хак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4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нтернет-зависимость (виртуальное замещение реаль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4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ксуальные домогатель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4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корректность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4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нтернет-хулиг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6"/>
          <p:cNvPicPr/>
          <p:nvPr/>
        </p:nvPicPr>
        <p:blipFill>
          <a:blip r:embed="rId1"/>
          <a:stretch/>
        </p:blipFill>
        <p:spPr>
          <a:xfrm>
            <a:off x="6000840" y="3559320"/>
            <a:ext cx="2714400" cy="329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научить детей отличать правду от лжи в Интерне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1357200" y="2428920"/>
            <a:ext cx="700056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428840"/>
            <a:ext cx="9143640" cy="35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вайте у детей навыки критического мышления, объясните им, что в Интернете не вся информация правд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чите детей проверять найденну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Интернете информацию п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угим источ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ъясните вашим детям, что тако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изм, фашизм, межнациональна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религиозная вра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5color"/>
          <p:cNvPicPr/>
          <p:nvPr/>
        </p:nvPicPr>
        <p:blipFill>
          <a:blip r:embed="rId1"/>
          <a:stretch/>
        </p:blipFill>
        <p:spPr>
          <a:xfrm>
            <a:off x="5927760" y="3000240"/>
            <a:ext cx="3053880" cy="3857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мейное соглашен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работе в Интер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85840" y="1571760"/>
            <a:ext cx="85723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список сайтов какие могут посещать в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время работы детей в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усть дети всегда могут попросить Вас о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уйте соблюдения определенного этикета и вежливости при общении ваших детей в Интер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разрешайте личных встреч с новыми знакомыми из Интернета без вашего одоб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гда не отправляйте и не пересылайте нежела- тельные электронные письма (сп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ретите оставлять свою личную информацию в Интерне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использовать службу мгновенных сообщений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14200" y="1595520"/>
            <a:ext cx="86436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гда не заполняйте графы, относящиеся к личным да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гда не разговаривайте 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рнет с незнакомым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гулярно проверяйте список контактов своих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имательно проверяйте запросы на включение в список новых др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Documents and Settings\Пользователь\Рабочий стол\фотки\klass.JPG"/>
          <p:cNvPicPr/>
          <p:nvPr/>
        </p:nvPicPr>
        <p:blipFill>
          <a:blip r:embed="rId1"/>
          <a:stretch/>
        </p:blipFill>
        <p:spPr>
          <a:xfrm>
            <a:off x="5357880" y="2357280"/>
            <a:ext cx="3428640" cy="2565000"/>
          </a:xfrm>
          <a:prstGeom prst="rect">
            <a:avLst/>
          </a:prstGeom>
          <a:ln w="9525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0" y="6480"/>
            <a:ext cx="9143640" cy="1064520"/>
          </a:xfrm>
          <a:prstGeom prst="rect">
            <a:avLst/>
          </a:pr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рнет – зависим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14200" y="1357200"/>
            <a:ext cx="53575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тановите правила использования домашнего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дите баланс между нахождением в Интернет и физической нагрузкой вашего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ьютер с выходом в Интернет должен находиться в комнате взрос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http://coolculinary.ru/wp-content/uploads/2011/05/%D0%98%D0%BD%D1%82%D0%B5%D1%80%D0%BD%D0%B5%D1%82-%D0%B7%D0%B0%D0%B2%D0%B8%D1%81%D0%B8%D0%BC%D0%BE%D1%81%D1%82%D1%8C-290x282.jpg"/>
          <p:cNvPicPr/>
          <p:nvPr/>
        </p:nvPicPr>
        <p:blipFill>
          <a:blip r:embed="rId1"/>
          <a:stretch/>
        </p:blipFill>
        <p:spPr>
          <a:xfrm>
            <a:off x="5572080" y="1714680"/>
            <a:ext cx="3261960" cy="3171600"/>
          </a:xfrm>
          <a:prstGeom prst="rect">
            <a:avLst/>
          </a:prstGeom>
          <a:ln w="0">
            <a:solidFill>
              <a:srgbClr val="4f81bd">
                <a:lumMod val="75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  <Words>396</Words>
  <Paragraphs>53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8:26:44Z</dcterms:created>
  <dc:creator>www.методкабинет.рф</dc:creator>
  <dc:description/>
  <dc:language>en-US</dc:language>
  <cp:lastModifiedBy>Ралиф</cp:lastModifiedBy>
  <dcterms:modified xsi:type="dcterms:W3CDTF">2015-10-17T04:38:43Z</dcterms:modified>
  <cp:revision>25</cp:revision>
  <dc:subject/>
  <dc:title>Безопасность  детей в  Интенет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